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14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28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28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28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28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28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28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054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700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08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054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700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0880" y="282600"/>
            <a:ext cx="8604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-212760"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0400" indent="-285840">
              <a:lnSpc>
                <a:spcPct val="8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2400" indent="-214560">
              <a:lnSpc>
                <a:spcPct val="8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4040" indent="-212760">
              <a:lnSpc>
                <a:spcPct val="8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5680" indent="-214200">
              <a:lnSpc>
                <a:spcPct val="8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155680" indent="-214200">
              <a:lnSpc>
                <a:spcPct val="8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155680" indent="-214200">
              <a:lnSpc>
                <a:spcPct val="8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何して日本語を勉強しますか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 algn="ctr">
              <a:lnSpc>
                <a:spcPct val="95000"/>
              </a:lnSpc>
              <a:buNone/>
              <a:tabLst>
                <a:tab algn="l" pos="0"/>
                <a:tab algn="l" pos="21276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812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</a:rPr>
              <a:t>１０．４．２００８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212760" indent="0" algn="ctr">
              <a:lnSpc>
                <a:spcPct val="95000"/>
              </a:lnSpc>
              <a:buNone/>
              <a:tabLst>
                <a:tab algn="l" pos="0"/>
                <a:tab algn="l" pos="21276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812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</a:rPr>
              <a:t>Jouni Laitinen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日本の文化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e6e6e6"/>
                </a:solidFill>
                <a:latin typeface="Times New Roman"/>
              </a:rPr>
              <a:t>１９９７年前　日本は　ちょっと　つまらない　と思っていました。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-324000">
              <a:lnSpc>
                <a:spcPct val="143000"/>
              </a:lnSpc>
              <a:spcBef>
                <a:spcPts val="2276"/>
              </a:spcBef>
              <a:spcAft>
                <a:spcPts val="227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e6e6e6"/>
                </a:solidFill>
                <a:latin typeface="Times New Roman"/>
              </a:rPr>
              <a:t>ごろ　１９９８年　私は　アキラ　見ました。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-324000">
              <a:lnSpc>
                <a:spcPct val="14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e6e6e6"/>
                </a:solidFill>
                <a:latin typeface="Times New Roman"/>
              </a:rPr>
              <a:t>２０００年　</a:t>
            </a:r>
            <a:r>
              <a:rPr b="0" lang="en-GB" sz="2600" spc="-1" strike="noStrike">
                <a:solidFill>
                  <a:srgbClr val="e6e6e6"/>
                </a:solidFill>
                <a:latin typeface="Times New Roman"/>
              </a:rPr>
              <a:t>YLE </a:t>
            </a:r>
            <a:r>
              <a:rPr b="0" lang="en-GB" sz="2600" spc="-1" strike="noStrike">
                <a:solidFill>
                  <a:srgbClr val="e6e6e6"/>
                </a:solidFill>
                <a:latin typeface="Times New Roman"/>
              </a:rPr>
              <a:t>は　花火　教えました。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-324000">
              <a:lnSpc>
                <a:spcPct val="14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e6e6e6"/>
                </a:solidFill>
                <a:latin typeface="Times New Roman"/>
              </a:rPr>
              <a:t>ごろ　２００１年　友達　は　</a:t>
            </a:r>
            <a:r>
              <a:rPr b="0" lang="en-GB" sz="2600" spc="-1" strike="noStrike">
                <a:solidFill>
                  <a:srgbClr val="e6e6e6"/>
                </a:solidFill>
                <a:latin typeface="Times New Roman"/>
              </a:rPr>
              <a:t>Serial Experiments Lain</a:t>
            </a:r>
            <a:r>
              <a:rPr b="0" lang="en-GB" sz="2600" spc="-1" strike="noStrike">
                <a:solidFill>
                  <a:srgbClr val="e6e6e6"/>
                </a:solidFill>
                <a:latin typeface="Times New Roman"/>
              </a:rPr>
              <a:t>　を　教えて　ナンバーガール　を　聞きました。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日本の音楽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　ヴィスアルケイ　と　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J-Pop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は　常に　つまらない　と思っていました。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-324000">
              <a:lnSpc>
                <a:spcPct val="14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ナンバーガル　は　異なりました。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ナンバーガル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１９９５年　は　ナンバーがル　結成しました。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60400" indent="-285840">
              <a:lnSpc>
                <a:spcPct val="14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むかい　しゅとく　ギター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60400" indent="-285840">
              <a:lnSpc>
                <a:spcPct val="14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たぶち　ひさこ　ギター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60400" indent="-285840">
              <a:lnSpc>
                <a:spcPct val="14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けんたろ　なかお　バースギター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60400" indent="-285840">
              <a:lnSpc>
                <a:spcPct val="14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あひと　いなざわ　トラムス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-324000">
              <a:lnSpc>
                <a:spcPct val="14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四つ　アルブム　を　リリースをした。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-324000">
              <a:lnSpc>
                <a:spcPct val="14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２００２年　　バンドは　別れました。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-324000">
              <a:lnSpc>
                <a:spcPct val="14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如何してナンバーがルがすきですか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60400" indent="-285840">
              <a:lnSpc>
                <a:spcPct val="14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バンドの音楽は早くていかついでした。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380360" y="2340000"/>
            <a:ext cx="2520720" cy="37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北野 武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e6e6e6"/>
                </a:solidFill>
                <a:latin typeface="Times New Roman"/>
              </a:rPr>
              <a:t>北野さん　は　東京で　生まれました。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-324000">
              <a:lnSpc>
                <a:spcPct val="190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e6e6e6"/>
                </a:solidFill>
                <a:latin typeface="Times New Roman"/>
              </a:rPr>
              <a:t>明治大学　で　勉強しました。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lvl="1" marL="860400" indent="-285840">
              <a:lnSpc>
                <a:spcPct val="190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e6e6e6"/>
                </a:solidFill>
                <a:latin typeface="Times New Roman"/>
              </a:rPr>
              <a:t>でも　漫才　を　なりたいでした。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-324000">
              <a:lnSpc>
                <a:spcPct val="190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e6e6e6"/>
                </a:solidFill>
                <a:latin typeface="Times New Roman"/>
              </a:rPr>
              <a:t>ごろ１９７０年から　１９９０年まで　北野さんは　スタンドアップをしました。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-324000">
              <a:lnSpc>
                <a:spcPct val="190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e6e6e6"/>
                </a:solidFill>
                <a:latin typeface="Times New Roman"/>
              </a:rPr>
              <a:t>北野さんの一番目有名な映画は花火です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花火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１９９７年　封切りしました。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-324000">
              <a:lnSpc>
                <a:spcPct val="190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花火　は　北野 武さん　の　７番目映画です。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-324000">
              <a:lnSpc>
                <a:spcPct val="190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トラマ　映画です。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-324000">
              <a:lnSpc>
                <a:spcPct val="190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映画　は　沢山　北野さん　の　絵　あります。　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738920" y="2879640"/>
            <a:ext cx="2160720" cy="3259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Orange title on dark blue background with orange stripes on bottom border</dc:description>
  <dc:language>en-US</dc:language>
  <cp:lastModifiedBy/>
  <cp:revision>0</cp:revision>
  <dc:subject/>
  <dc:title/>
</cp:coreProperties>
</file>