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4C7-62A6-4D4D-A11A-8025EBEA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86310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6400"/>
            <a:ext cx="86310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1BD-C385-49AF-ADE6-FDF28C26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43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640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4360" y="458640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5121-05F8-43BB-9AA3-23A6BF5C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9920" y="219996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8080" y="219996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640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9920" y="458640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8080" y="458640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AAF1-BC45-4604-A75C-F03536CA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199960"/>
            <a:ext cx="86310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884-58CD-41C1-AF39-2F253FCB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86310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CF20-34C5-403E-B8F6-42050179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1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4360" y="2199960"/>
            <a:ext cx="4211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96F-29C4-4ADE-B9E9-BAD43CA7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ACC-91B0-4AF0-8969-ABB27229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080"/>
            <a:ext cx="863100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732E-924D-4F15-B7FB-1EDDD3CC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4360" y="2199960"/>
            <a:ext cx="4211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640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C8C-B1B8-4E41-B430-9DF4C7F2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1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43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4360" y="458640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6843-0E5A-412B-8572-3392CBC2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43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6400"/>
            <a:ext cx="86310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949-6D57-4B6E-B5E5-F44B9738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199960"/>
            <a:ext cx="86310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942240"/>
            <a:ext cx="21128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2240"/>
            <a:ext cx="3214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0280" y="6942240"/>
            <a:ext cx="2114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49A91-B9E6-4702-8802-DB2807547265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57160" y="3044520"/>
            <a:ext cx="8445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Game Theory in Wireless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42840" y="4403520"/>
            <a:ext cx="661644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Jouni Laiti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9.11.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674280"/>
            <a:ext cx="863424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5.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42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What has been sh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Where it be can ap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Future work(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674280"/>
            <a:ext cx="863424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6.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42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Imported from Ref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- Currently  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0" indent="-4557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Not all might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Good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Rec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Cournot (1838), Nash (1950, -5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674280"/>
            <a:ext cx="863424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42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10.11.2010 Research of useful publications, game theory section 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01.12.2010 Introduction, wireless networks, cooperative games subsection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10.12.2010 Thesis fin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16.12.2010 Presentation of 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720720"/>
            <a:ext cx="863424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Any questions or com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720720"/>
            <a:ext cx="863424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hank you :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28560"/>
            <a:ext cx="863424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General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42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Game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nalysis of a situation involving conflicting interests (as in business or military strategy) in terms of gains and losses among opposing 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s in math &amp; econo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von Neumann, Oskar Morgenster, John Nash, Lloyd Shapley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674280"/>
            <a:ext cx="863424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General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42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Mobile phones, wlan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Function within a limited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Game Theory &amp; Wireless networ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628560"/>
            <a:ext cx="86328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Research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86328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1. Cooperative games and  non-cooperative g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2.Perfect information vs imperfec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3.Re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4.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74280"/>
            <a:ext cx="863424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42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Game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Wireless technology/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Game theory in wireless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674280"/>
            <a:ext cx="863424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1.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42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Game theory in general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Little on what this thesis i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Some overview on previous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674280"/>
            <a:ext cx="863424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2. Game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42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What is game the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Game types,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How to solve some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Exampl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74280"/>
            <a:ext cx="863424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3. Wireless technology/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42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A brief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Future (4G and beyo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674280"/>
            <a:ext cx="863424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4. Game Theory in Wireles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42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Why and 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evious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What kind of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What are the 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Devided in to two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Cooperative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Non-cooperative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0" indent="-4557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Exampl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