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E8A-CC41-474D-9003-657BCD97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3A6-9254-460E-B6C9-A0B48AB4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989-C414-4BA9-9533-1BCDA688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992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808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992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808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880-8E0C-4512-BEA1-5DA345B4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85B-E2F7-4FC5-B3FE-97EC296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B7C-6964-46F7-9D12-6126F7C9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FDE-8DD3-460F-AB99-D554C3A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1DF-53FA-4126-9E1B-E57255C9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080"/>
            <a:ext cx="8631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BF3-70D5-4777-AA47-4B9F3E5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C33-48DF-4F64-9663-37D2EC5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4A8-A187-44AF-8C19-02892A6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105-13FF-493F-889B-0B3BF910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28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2240"/>
            <a:ext cx="3214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4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85928-8B6D-4541-A5C1-B0C23B7994BE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7160" y="3044520"/>
            <a:ext cx="8445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Game Theory in Wireless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2840" y="4403520"/>
            <a:ext cx="661644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Jouni Lait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9.11.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5.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has been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ere it be can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Future work(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6.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Imported from Ref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- Currently  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0" indent="-45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Not all migh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ood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Re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urnot (1838), Nash (1950, -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0.11.2010 Research of useful publications, game theory section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01.12.2010 Introduction, wireless networks, cooperative games subsectio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0.12.2010 Thesis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6.12.2010 Presentation of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720720"/>
            <a:ext cx="86342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Any questions or 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720720"/>
            <a:ext cx="86342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hank you 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28560"/>
            <a:ext cx="8634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General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alysis of a situation involving conflicting interests (as in business or military strategy) in terms of gains and losses among opposing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s in math &amp;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von Neumann, Oskar Morgenster, John Nash, Lloyd Shapley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General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Mobile phones, wla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Function within a limited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 &amp; Wireless networ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28560"/>
            <a:ext cx="86328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Research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8632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. Cooperative games and  non-cooperative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2.Perfect information vs imperfe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3.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4.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ireless technology/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 in wireless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1.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 in general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Little on what this thesis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Some overview on previou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2. Gam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is game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Game types,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How to solve som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Exampl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3. Wireless technology/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A brief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Future (4G and beyo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4. Game Theory in Wirele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eviou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kind of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are the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Devided in to two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operativ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Non-cooperativ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0" indent="-45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xampl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