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7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852DF-32B9-4AAE-BBFC-E9D595494B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xperimental_physics" TargetMode="External"/><Relationship Id="rId2" Type="http://schemas.openxmlformats.org/officeDocument/2006/relationships/hyperlink" Target="http://en.wikipedia.org/wiki/Chemistry" TargetMode="External"/><Relationship Id="rId3" Type="http://schemas.openxmlformats.org/officeDocument/2006/relationships/hyperlink" Target="http://en.wikipedia.org/wiki/Oskar_Morgenstern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Good mo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HX 4 the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do ask ques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action profiles = the list of all the players' 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2 main types acording to réne van den br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Binding agreements e.g.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Coordination 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              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 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10,10   |  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   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_____|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               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0,0          | 10,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 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Profits(Group)&gt; Profits(So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Means that payoff for player i is at least as good according to player i's preferences as the action profile (ai, a*-i) in which player i chooses ai while player j chooses a*j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here may be more moves than one that result 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Your and your opponents actions are in perfect bal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Rand corporation 1950's=research and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quiet = strictly domi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(frink, frink) = 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Quiet= Don't build bom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frink=build bom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quiet=work h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frink=goof 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Unless provoked, the agent will always coope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If provoked, the agent will retal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he agent is quick to forg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he agent must have a good chance of competing against the opponent more than o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4players: 2 T4T and 2 Def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Defector VS T4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1st 3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2,3,4,5,6 1&amp;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OTAL D=8 T4T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4T vs T4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4T=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D vs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4T= 12+12+5+5=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	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D=8+8+6+6=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Zero-sum game = all actions are played with same propability resulting in a payoff of z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Non-GT strategy is to play scissors. people usually assume you that you'll play rock so they'll play pap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irst i'll introduce game theory really brie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hen I'll tell you a little bit about its history and present a few important p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after that I'll presnt some re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hen we'll do some exerc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and finally i'll give you some it related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NE=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No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Also Crafooed Prize (~nobel in biology) to John maynard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At first used in analyzing poker games.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Waldegra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Le Her = card 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Cour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Uses game theory to analyze duopolies and presents a limited equilibriu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Recherches sur les principes mathématiques de la théorie des riches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Researches into the Mathematical Principles of the The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of Wealth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Born in Budapest, Hungary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A prodi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Ph.D in Mathematics w/ with minors in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experimental physics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 and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chemistry</a:t>
            </a: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Zur Theorie der Gesellschaftsspiele = </a:t>
            </a: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On the Theory of Parlor G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heory of Games and Economic Behavior w/ 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Oskar Morgen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This profound work contained the method for finding optimal solutions for two-person zero-sum games.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June 13, 1928 in Bluefield, West Virgi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Carnegie Institute of Technology = Carnegie Mellon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Chemical engineering -&gt; Chemistry -&gt; Mathe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letter of recommendation to Princet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"This man is a genius." Carnegie Tech professor R.J. Duffin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444444"/>
                </a:solidFill>
                <a:latin typeface="Arial"/>
                <a:ea typeface="MS Gothic"/>
              </a:rPr>
              <a:t>Non-cooperative Games = 32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CD8-5225-48EB-97EB-AC134CE2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86310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6400"/>
            <a:ext cx="86310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C57-3501-49B0-9922-AF6E8C36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43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30C-EA28-483B-B0BC-677F3324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9920" y="219996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8080" y="219996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640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9920" y="458640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8080" y="4586400"/>
            <a:ext cx="27788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26F-110A-4724-9FC1-3EAC409F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199960"/>
            <a:ext cx="86310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00B-BD04-4DAC-B5DC-7CD5AB96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86310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82D-F651-4760-9954-C9B8055E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257-0AD8-436F-A924-A8D496E0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B64-DB18-4A7C-B3B8-0C3DE7C3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080"/>
            <a:ext cx="8631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760-4829-4866-A40D-E5B31613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9CC-E162-4818-8B9C-E7FCD4AD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4360" y="458640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4A9-1262-4D2F-96B6-F41FD007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4360" y="2199960"/>
            <a:ext cx="421164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6400"/>
            <a:ext cx="86310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EEC-1D18-4265-BB8E-058D865B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080"/>
            <a:ext cx="8631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199960"/>
            <a:ext cx="86310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42240"/>
            <a:ext cx="21128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2240"/>
            <a:ext cx="3214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0280" y="6942240"/>
            <a:ext cx="2114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83E52-7C88-485B-8630-BED2CB7E07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ulkaisut.jyu.fi/index.php?page=product&amp;id=10485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0960" y="1908000"/>
            <a:ext cx="88822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de6600"/>
                </a:solidFill>
                <a:latin typeface="Arial"/>
              </a:rPr>
              <a:t>Game Theory - </a:t>
            </a:r>
            <a:br>
              <a:rPr sz="4800"/>
            </a:br>
            <a:r>
              <a:rPr b="0" lang="en-GB" sz="2700" spc="-1" strike="noStrike">
                <a:solidFill>
                  <a:srgbClr val="de6600"/>
                </a:solidFill>
                <a:latin typeface="Arial"/>
              </a:rPr>
              <a:t>Or How To Make an Offer Your Opponent Can't Refuse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71560" y="4571640"/>
            <a:ext cx="66168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b62af"/>
                </a:solidFill>
                <a:latin typeface="Arial"/>
              </a:rPr>
              <a:t>17.02.200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b62af"/>
                </a:solidFill>
                <a:latin typeface="Arial"/>
              </a:rPr>
              <a:t>Jouni Laitin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de6600"/>
                </a:solidFill>
                <a:latin typeface="Arial"/>
              </a:rPr>
              <a:t>Different Types of Ga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b62a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Defini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What is a Game [1]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A set of player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For each player, a set of a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For each player, preferences over the set of action profi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2 main types of games [6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Cooperative gam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9120" y="1857240"/>
            <a:ext cx="96616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Binding agreements are poss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Players work together to maximize their prof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 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&gt;"How to divide among individuals what they can earn by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cooperating together?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Example: the Coordination g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Non-cooperative gam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Binding agreements are not poss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Cooperation must enforce itsel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&gt;"How will rational players behave?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    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Example: Ice cream game[6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Nash Equilibriu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Developed in 1950 by John Nas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Definition[1]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u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i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(a*) ≥u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i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(a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i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,a*-1) for every action ai of player i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where </a:t>
            </a: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u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 is a payoff function that represents player </a:t>
            </a:r>
            <a:r>
              <a:rPr b="0" i="1" lang="en-GB" sz="2400" spc="-1" strike="noStrike">
                <a:solidFill>
                  <a:srgbClr val="444444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's p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&gt;What does that mea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444444"/>
                </a:solidFill>
                <a:latin typeface="Arial"/>
              </a:rPr>
              <a:t>http://www.youtube.com/watch?v=CWtM5pZzZIU#t=2m0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de6600"/>
                </a:solidFill>
                <a:latin typeface="Arial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b62a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970360" y="2316240"/>
            <a:ext cx="4228920" cy="4343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0960" y="0"/>
            <a:ext cx="716940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0b5394"/>
                </a:solidFill>
                <a:latin typeface="Arial"/>
              </a:rPr>
              <a:t>Coordination Game (cooperative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                       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                            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Player 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93920" y="3386160"/>
            <a:ext cx="4064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2920" y="73080"/>
            <a:ext cx="9667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Prisoner's Dilemma [1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9800" y="811080"/>
            <a:ext cx="966132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P1/P2                        Quiet            Frin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Qui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Frin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65320" y="1638360"/>
            <a:ext cx="42292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Tit for Tat[1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85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=Repeated Prisoner'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Dilemm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Simple  strateg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cooperate/retaliate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forg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Used in Bittorrent to optimize download spee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9280" y="1800360"/>
            <a:ext cx="495612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Rock Paper Scisso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P1/P2                Rock        Paper             Sciss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Pap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Sciss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692440" y="3114720"/>
            <a:ext cx="457344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Cont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440"/>
            <a:ext cx="9664560" cy="70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A really brief Introducti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Brief history &amp; important theorist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Two main types of gam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Refere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Ice Cream Game (noncooperative)[6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92240" y="3375000"/>
            <a:ext cx="8269200" cy="101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Game Theory &amp; I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Mainly used in A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Algorithmic  game the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   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 e.g. Routing algorith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100" spc="-1" strike="noStrike" u="sng">
                <a:solidFill>
                  <a:srgbClr val="3b62af"/>
                </a:solidFill>
                <a:uFillTx/>
                <a:latin typeface="Arial"/>
              </a:rPr>
              <a:t>Simple Channel-Change Games for Spectrum-Agile Wireless Networks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[5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Simple Channel-Change Games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444444"/>
                </a:solidFill>
                <a:latin typeface="Arial"/>
              </a:rPr>
              <a:t>"Simple Channel-Change Games for Spectrum Agile Wireless Networks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444444"/>
                </a:solidFill>
                <a:latin typeface="Arial"/>
              </a:rPr>
              <a:t>Roli G. Wendorf and Howard Blum, Proceedings of Student/Faculty Research Day, CSIS, Pace University, May 5th, 200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311560" y="2527200"/>
            <a:ext cx="55371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Game Theory in University of Jyväskylä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444444"/>
                </a:solidFill>
                <a:latin typeface="Arial"/>
              </a:rPr>
              <a:t>Maria Dementieva:</a:t>
            </a:r>
            <a:r>
              <a:rPr b="0" lang="en-GB" sz="2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i="1" lang="en-GB" sz="2900" spc="-1" strike="noStrike" u="sng">
                <a:solidFill>
                  <a:srgbClr val="3b62af"/>
                </a:solidFill>
                <a:uFillTx/>
                <a:latin typeface="Arial"/>
              </a:rPr>
              <a:t>Regularization in Multistage Cooperative Games</a:t>
            </a:r>
            <a:r>
              <a:rPr b="0" lang="en-GB" sz="2900" spc="-1" strike="noStrike" u="sng">
                <a:solidFill>
                  <a:srgbClr val="3b62af"/>
                </a:solidFill>
                <a:uFillTx/>
                <a:latin typeface="Arial"/>
              </a:rPr>
              <a:t>. (2004) </a:t>
            </a:r>
            <a:r>
              <a:rPr b="0" lang="en-GB" sz="2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444444"/>
                </a:solidFill>
                <a:latin typeface="Arial"/>
              </a:rPr>
              <a:t>Yulia Pavlova:</a:t>
            </a:r>
            <a:r>
              <a:rPr b="0" i="1" lang="en-GB" sz="2900" spc="-1" strike="noStrike" u="sng">
                <a:solidFill>
                  <a:srgbClr val="3b62af"/>
                </a:solidFill>
                <a:uFillTx/>
                <a:latin typeface="Arial"/>
              </a:rPr>
              <a:t>Multistage Coalition Formation Game of a Selfenforcing International Environment Agreement. (2008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444444"/>
                </a:solidFill>
                <a:latin typeface="Arial"/>
              </a:rPr>
              <a:t>TIEJ599 Game Theory and Applications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444444"/>
                </a:solidFill>
                <a:latin typeface="Arial"/>
              </a:rPr>
              <a:t>TIEJ633 SC2: Game Theory (JSS18)  </a:t>
            </a:r>
            <a:br>
              <a:rPr sz="2900"/>
            </a:br>
            <a:r>
              <a:rPr b="0" lang="en-GB" sz="1300" spc="-1" strike="noStrike">
                <a:solidFill>
                  <a:srgbClr val="444444"/>
                </a:solidFill>
                <a:latin typeface="Arial"/>
              </a:rPr>
              <a:t> 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" y="639720"/>
            <a:ext cx="9661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3b62af"/>
                </a:solidFill>
                <a:latin typeface="Arial"/>
              </a:rPr>
              <a:t>What have we learned from this presentation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Game Theory 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  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Deals with strategic decisions made by rational play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 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Can be used in various scenarios to analyze different moves to determine the best possible outco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     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Might be hard to learn thanks to the difficult not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Ques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Because game theory assumes that players act rationally, can it be used to analyze human interact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Altruism in game theor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  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(e.g.playing a non-NE move to influence your opponent’s 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        future game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  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Referen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7680" y="179388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[1]"An Introduction to Game Theory" Orsborne, M, 2004, Oxford University Pr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[2]John Nash http://www.princeton.edu/mudd/news/faq/topics/nash.shtm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[3]Wikipedia article on John Von Neuman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[4] Game Theory For Wireless Engineers, Allen Mackenzie et al,200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[5]"Simple Channel-Change Games for Spectrum Agile Wireles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Networks",Wendorf, R.G.; Blum, H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[6] </a:t>
            </a:r>
            <a:r>
              <a:rPr b="0" lang="en-GB" sz="2100" spc="-1" strike="noStrike" u="sng">
                <a:solidFill>
                  <a:srgbClr val="3b62af"/>
                </a:solidFill>
                <a:uFillTx/>
                <a:latin typeface="Arial"/>
              </a:rPr>
              <a:t>“TIEJ633 SC2: Game Theory” course material</a:t>
            </a:r>
            <a:r>
              <a:rPr b="0" lang="en-GB" sz="2100" spc="-1" strike="noStrike">
                <a:solidFill>
                  <a:srgbClr val="444444"/>
                </a:solidFill>
                <a:latin typeface="Arial"/>
              </a:rPr>
              <a:t>, Rene van den Brink, 20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A Really Brief Introduction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The analysis of a situation involving conflicting interests (as in business or military strategy) in terms of gains and losses among opposing players."(Merriam-Web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"People will always do what is best for them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Eight theorists have won Nobel Prizes in Econo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What can you do with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44444"/>
                </a:solidFill>
                <a:latin typeface="Arial"/>
              </a:rPr>
              <a:t>You can show that players don't have dominant strategies in Rock paper sciss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History [4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1720" y="1427040"/>
            <a:ext cx="966132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713: James Waldegrave's minimax mixed strategy solution to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    le 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838: Antoine Augustin Cournot's 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Recherches sur les principes 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    mathématiques de la théorie des riches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b62a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668680" y="639720"/>
            <a:ext cx="4724280" cy="59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John Von Neumann[3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December 28, 1903 – February 8, 195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Contributions to scienc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928: Zur Theorie der Gesellschaftsspie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944: Theory of Games and Economic Behavi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b62a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85880" y="380880"/>
            <a:ext cx="498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174840" y="1447920"/>
            <a:ext cx="38102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300" spc="-1" strike="noStrike">
                <a:solidFill>
                  <a:srgbClr val="3b62af"/>
                </a:solidFill>
                <a:latin typeface="Arial"/>
              </a:rPr>
              <a:t>John Forbes Nash Jr. [2]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June 13, 1928 - 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Carnegie Institute of Technology -&gt; Princet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&gt;Rand Corpo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950: 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Non-cooperative Gam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950: </a:t>
            </a:r>
            <a:r>
              <a:rPr b="0" i="1" lang="en-GB" sz="2700" spc="-1" strike="noStrike">
                <a:solidFill>
                  <a:srgbClr val="444444"/>
                </a:solidFill>
                <a:latin typeface="Arial"/>
              </a:rPr>
              <a:t>Equilibrium Points in N-person Gam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      </a:t>
            </a: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-&gt; Nash Equilibriu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44444"/>
                </a:solidFill>
                <a:latin typeface="Arial"/>
              </a:rPr>
              <a:t>1994: Nobel Prize in Econom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