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75B9-5293-4C2A-A8F9-DFAB4C23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9C2-A00F-4004-986C-46A79F4F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5F1-61DF-4096-8927-98FFE62A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097-CBB7-425F-B057-B1901C68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FBF-44B0-4E8D-A7CC-E760905C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639F-110E-40B1-B5E4-51E4F81A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2B6B-A4C4-46ED-80EE-E17B819F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863-1667-4FDD-99E2-A50F89C3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0BB-4D0F-4D25-A77B-2E0041FC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A1A7-F04D-4378-80F1-D3CDA962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B7A4-792D-413D-BFFE-D36EDD70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0AFA-B9DD-4911-9F06-F6953D33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2E4F54-F91B-4D96-B5DA-CF46053E96EC}" type="slidenum"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che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hdanto: Mikä on Echel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ansainvälinen tiedustelupalvelujärjestelm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äitetään pystyvän lähes täydelliseen valvontaan laajan satelliittiverkon av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imii UKUSA-valtioiden yhteistyöllä ja NSA:n johdo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ättänyt keskustelua mahdollisesta kilpailuvakoilusta sekä ihmisoikeuksis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KUSA -sopimus (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chelon ”versio 2.0” (19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A-raportt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199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insäädänt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helon ei riko EY:n perustamissopimusta tiedustelujärjestelmänä, mutta on kilpailuvakoilutarkoituksessa lainvasta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ksityisyyden suojasta ei ole televiestinnän alalla yhtenäistä kansainvälistä lainsäädäntö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ksityisyyteen puuttuminen on Euroopan ihmisoikeussopimuksessa sallittua ainoastaan kansallisen turvallisuuden takaamise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ainen valvontajärjestelmä saattaisi heikentää demokrati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kniik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alatino"/>
              </a:rPr>
              <a:t>Echelonin tarkoitus on siepata satunnaisesta tietoliikenteestä merkityksellistä ja hyödyllistä tieto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alatino"/>
              </a:rPr>
              <a:t>Louhinta tapahtuu suodattamalla tarpeeton tieto pois avainsanalistojen avu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alatino"/>
              </a:rPr>
              <a:t>Laaja satelliitti ja useita maanpäällisiä kuunteluasemia eri manterei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alatino"/>
              </a:rPr>
              <a:t>Verkosto sieppaa sekä tietoa sateliittiliikenteestä että maanpäälliestä radio- ja kaapeliliikentees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kniikka (jatku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alatino"/>
              </a:rPr>
              <a:t>Verkosto sieppaa sekä tietoa sateliittiliikenteestä että maanpäälliestä radio- ja kaapeliliikentees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alatino"/>
              </a:rPr>
              <a:t>Echelonin teknologia mahdollistaa kasvon- ja äänentunnistuk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alatino"/>
              </a:rPr>
              <a:t>Kykenee purkamaan heikosti salattuja sähköposteja, sekä seulomaan muitakin internetin datavirto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alatino"/>
              </a:rPr>
              <a:t>Internet-liikenteen pakettivirrat Echelon poimii reittien solmukohdista eli reitittimis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alatino"/>
              </a:rPr>
              <a:t>Echelonin käyttämä teknologia ja tekniikka on hyvin salaista, mutta sen uskotaan olevan uusinta ja tehokkainta koko maailma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usunto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NSA:n entinen työntekijä Wayne Madsen vahvistaa Echelonin olemassaolon. Hänen mielestään taloutta koskevien tietojen kerääminen on ehdottomasti etusijalla ja niitä hyödyntävät yhdysvaltalaiset suuryrity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Yhdistyneet kuningaskunnat myöntävät, että RAF Menwith Hillin asema kuuluu heidän puolustusministeriölle, mutta on annettu viestintälaitteistoksi NSA:n käyttöön. NSA nimittää laitoksen johtajan ja siellä työskentelee satoja Yhdysvaltojen armeijan sotila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Se valvonta, mitä Google tekee, on tällä hetkellä potentiaalisesti paljon vaarallisempaa kuin mitä Echelon tekee” Pertti Järvinen IT-Viikko 17.8.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isa Jaakonaho</dc:creator>
  <dc:description/>
  <dc:language>en-US</dc:language>
  <cp:lastModifiedBy>Office 2004 Test Drive User</cp:lastModifiedBy>
  <cp:revision>0</cp:revision>
  <dc:subject/>
  <dc:title>Echelon</dc:title>
</cp:coreProperties>
</file>