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294-AA12-4DD4-B96A-59188030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1FF-2C8F-4E97-9F38-DF7A2AAE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854-2E7E-40EE-B4EC-6509FB4B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F15-0B0F-4ED3-A498-39DFA429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507-1E3D-4E69-A643-3EF12CD9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F29-3617-47C1-BC02-C2DDF0EC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A52-F3A9-48AC-9D10-DA8E89E8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68F-8302-467D-96C5-F73ED780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6F5-8D30-427B-93AD-00153F3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AB6-52AD-48E4-9C0F-3F83F32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181-E5EA-4EE7-9907-170B5C2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28F-F1B4-42E8-8D63-A105E78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D0D47A-ED25-4D10-BA4D-290EB6D4E78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che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hdanto: Mikä on Echel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ansainvälinen tiedustelupalvelujärjestel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äitetään pystyvän lähes täydelliseen valvontaan laajan satelliittiverkon av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imii UKUSA-valtioiden yhteistyöllä ja NSA:n johd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ättänyt keskustelua mahdollisesta kilpailuvakoilusta sekä ihmisoikeuksi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KUSA -sopimus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helon ”versio 2.0” (19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A-raportt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insäädänt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helon ei riko EY:n perustamissopimusta tiedustelujärjestelmänä, mutta on kilpailuvakoilutarkoituksessa lainvasta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ksityisyyden suojasta ei ole televiestinnän alalla yhtenäistä kansainvälistä lainsäädäntö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ksityisyyteen puuttuminen on Euroopan ihmisoikeussopimuksessa sallittua ainoastaan kansallisen turvallisuuden takaamise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ainen valvontajärjestelmä saattaisi heikentää demokrati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kniik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Echelonin tarkoitus on siepata satunnaisesta tietoliikenteestä merkityksellistä ja hyödyllistä tieto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Louhinta tapahtuu suodattamalla tarpeeton tieto pois avainsanalistojen avu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Laaja satelliitti ja useita maanpäällisiä kuunteluasemia eri mantere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Verkosto sieppaa sekä tietoa sateliittiliikenteestä että maanpäälliestä radio- ja kaapeliliikentee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kniikka (jatku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Verkosto sieppaa sekä tietoa sateliittiliikenteestä että maanpäälliestä radio- ja kaapeliliikentee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Echelonin teknologia mahdollistaa kasvon- ja äänentunnistuk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Kykenee purkamaan heikosti salattuja sähköposteja, sekä seulomaan muitakin internetin datavirto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Internet-liikenteen pakettivirrat Echelon poimii reittien solmukohdista eli reitittimi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alatino"/>
              </a:rPr>
              <a:t>Echelonin käyttämä teknologia ja tekniikka on hyvin salaista, mutta sen uskotaan olevan uusinta ja tehokkainta koko maailma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usunto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NSA:n entinen työntekijä Wayne Madsen vahvistaa Echelonin olemassaolon. Hänen mielestään taloutta koskevien tietojen kerääminen on ehdottomasti etusijalla ja niitä hyödyntävät yhdysvaltalaiset suuryrity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Yhdistyneet kuningaskunnat myöntävät, että RAF Menwith Hillin asema kuuluu heidän puolustusministeriölle, mutta on annettu viestintälaitteistoksi NSA:n käyttöön. NSA nimittää laitoksen johtajan ja siellä työskentelee satoja Yhdysvaltojen armeijan sotila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Se valvonta, mitä Google tekee, on tällä hetkellä potentiaalisesti paljon vaarallisempaa kuin mitä Echelon tekee” Pertti Järvinen IT-Viikko 17.8.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isa Jaakonaho</dc:creator>
  <dc:description/>
  <dc:language>en-US</dc:language>
  <cp:lastModifiedBy>Office 2004 Test Drive User</cp:lastModifiedBy>
  <cp:revision>0</cp:revision>
  <dc:subject/>
  <dc:title>Echelon</dc:title>
</cp:coreProperties>
</file>